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BEC-9470-4459-B7A5-5D31793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A98-DE64-456B-AEC7-FC1F67AD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034-862E-480A-975E-98DA0044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CFC-1EA4-449E-8F52-00B5D79B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90A-169C-414C-AC09-782A301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725-5DD9-4894-9BCD-122F9C08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B95-04EC-4AC0-9277-B4242F0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26A-6936-4CD7-A6D2-B532AFF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47A-4825-4A75-BEB1-5FA2979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F73-A734-4277-84C1-B3BF345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55B-93F8-4BE9-B776-C6C98F5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DFC-EB60-4A2C-9AD4-CE09729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6EE-8A1B-47FC-A29F-24A99B839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ожњ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0% ткива од 500микрона у централном делу до 1000 микрона периф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ламела дебљине 2микрона дужине од 10-260 мик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ака ламела има колегене фибриле сличних ду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ђусобно паралелне на растојању мањем од половине таласне дужине светл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ђу су гликозаминогликани-основна супстанца строме-провидност стро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а слаби од површине ка дубини- лако извођење дубоке кератектомије и кератоплас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ератоцити –модификовани фибробласти-синтеза колагена...ректи полиморфонуклеари, плазмоцити, лимф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васкуалрно, амијелинска нерв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дња гранична мемб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здваја строму од ендотела-базална мембрана ендо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10 микр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 секреторне активности ендо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ако се одваја од околних структур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генерише с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агене фибриле чврсто повезане у облику мрежице-јако чврс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дебљава у току живота и након неких патолошких проце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corneae hystology.jpg"/>
          <p:cNvPicPr/>
          <p:nvPr/>
        </p:nvPicPr>
        <p:blipFill>
          <a:blip r:embed="rId1"/>
          <a:stretch/>
        </p:blipFill>
        <p:spPr>
          <a:xfrm>
            <a:off x="1523880" y="1812960"/>
            <a:ext cx="620244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ндо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Један слој униформних хексагоналних ћел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500000 ћелија, смањује се број са старошћу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лога у процесу нормалне хидратације рожњаче- ендотелна пумпа- избацује јоне...осмоза- избацују воду у предњу очну комор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тензивна метаболичка активно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ју способност регенреац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леоморфизам- мењање облика преосталих ћелија након трауме- код мањих дефек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ећи дефекти- инфлукс воде- едем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rneal-endothelium-ostrich.gif"/>
          <p:cNvPicPr/>
          <p:nvPr/>
        </p:nvPicPr>
        <p:blipFill>
          <a:blip r:embed="rId1"/>
          <a:stretch/>
        </p:blipFill>
        <p:spPr>
          <a:xfrm>
            <a:off x="1498680" y="1600200"/>
            <a:ext cx="6146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ерв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геминални живац-сензитивна инерв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новни нервни сплет- строма- 2-4мм од лимбуса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епителни нервни сплет- између епитела и Бауманове мебране- иду до саме површине епителног сл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, епифора, фотофоб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Figure-1-Three-dimensional-representation-of-the-innervation-of-the-human-cornea15BEP.png"/>
          <p:cNvPicPr/>
          <p:nvPr/>
        </p:nvPicPr>
        <p:blipFill>
          <a:blip r:embed="rId1"/>
          <a:stretch/>
        </p:blipFill>
        <p:spPr>
          <a:xfrm>
            <a:off x="457200" y="2367000"/>
            <a:ext cx="4038480" cy="299232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7" descr="anatomy-and-physiology-of-cornea-43-638 iner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имб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митранспарентна и васкуларизована зона према бео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тел лимбуса- прелазак између епитела рожњаче и ве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орњи и доњи део- стем прогениторске 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 дозвољавеју епителу вежњаче да пређе на рожњ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убитак стем ћелија- дуго перзистирајући дефек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The_human_limbus..jpg"/>
          <p:cNvPicPr/>
          <p:nvPr/>
        </p:nvPicPr>
        <p:blipFill>
          <a:blip r:embed="rId1"/>
          <a:stretch/>
        </p:blipFill>
        <p:spPr>
          <a:xfrm>
            <a:off x="1413000" y="1600200"/>
            <a:ext cx="6318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бирно сочиво јачине +43 диопт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70% преломне моћи 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је чврстину очној јабуч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тити унутрашњост ока од спољашњих ф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 беоњачу и нормалан очни притисак одржава нормалан облик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ожњача је предњи, провидни, аваскуларни део спољашњег омотача о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дсечак лопте- закривљеност предње површине-7,8мм; задње површине- 6,8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оризонтални дијаметар 11-12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ертикални дијаметар 10-11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ентрална дебљина 0,5-0,6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ериферна дебљина 1,1-1,2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декс преламања је 1,3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миологија патолошких промена на рожњ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ро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ламенти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церација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с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илт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дроп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скуалриз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роз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граничени дефект епи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ума, али клинички знак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акши продор миркоораг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ује се флуоресцеинским боје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онатано зараста, али може и да се инфицира-инфекција и инфилт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u05-01-9781455776443.jpg"/>
          <p:cNvPicPr/>
          <p:nvPr/>
        </p:nvPicPr>
        <p:blipFill>
          <a:blip r:embed="rId1"/>
          <a:stretch/>
        </p:blipFill>
        <p:spPr>
          <a:xfrm>
            <a:off x="4952880" y="3581280"/>
            <a:ext cx="361800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orneal abrasion.jpg"/>
          <p:cNvPicPr/>
          <p:nvPr/>
        </p:nvPicPr>
        <p:blipFill>
          <a:blip r:embed="rId2"/>
          <a:stretch/>
        </p:blipFill>
        <p:spPr>
          <a:xfrm>
            <a:off x="762120" y="1066680"/>
            <a:ext cx="364788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ламен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атке муцинске кончасте творевине обложене епителним ћелијама, једним крајем причвршћене за повржин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мерање са трептајем- осећај страног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јење Розе бенга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filamentary-keratitis2.jpg"/>
          <p:cNvPicPr/>
          <p:nvPr/>
        </p:nvPicPr>
        <p:blipFill>
          <a:blip r:embed="rId1"/>
          <a:stretch/>
        </p:blipFill>
        <p:spPr>
          <a:xfrm>
            <a:off x="838080" y="4419720"/>
            <a:ext cx="2765520" cy="210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G37023AB1.jpg"/>
          <p:cNvPicPr/>
          <p:nvPr/>
        </p:nvPicPr>
        <p:blipFill>
          <a:blip r:embed="rId2"/>
          <a:stretch/>
        </p:blipFill>
        <p:spPr>
          <a:xfrm>
            <a:off x="5029200" y="4267080"/>
            <a:ext cx="338616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церац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граничени дефект епитела, Боуманове мембране и стром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лиферација везивног ткива у строми и Баумновој мембраби- смањена провидност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Шире се по дубини и површи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бекула, макула, леук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Ширење инфекције по дубини- тањење строме- десцеметокела- перфорација рожњаче- пролапс дужице (предња синехиј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дхерентни леуком- блокада отицања очне водице кроз коморни угао- глауком- ектазија рожњаче- СТАФИЛ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corneal-ulcer.png"/>
          <p:cNvPicPr/>
          <p:nvPr/>
        </p:nvPicPr>
        <p:blipFill>
          <a:blip r:embed="rId1"/>
          <a:stretch/>
        </p:blipFill>
        <p:spPr>
          <a:xfrm>
            <a:off x="1828800" y="2057400"/>
            <a:ext cx="5278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асет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пител брже регенерише од површне стр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епитела је прекривен новоствореним ћел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строме није репариран том брз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јење флуоресцеином- улегнуће, нема бој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филтрат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екција запаљенских ћелија на месту патолошког процеса у СТРО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 перилимбалних крвних удова- преко сузног филма или миграциј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тел интактан, али едематозан-десквамира се- егзулцерисани инфилт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ферно- имунска етиолог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ентрално-инфективна етиолог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сорпција потпу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еуком, васкуларизовани ле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orneal-emergencies-22-638.jpg"/>
          <p:cNvPicPr/>
          <p:nvPr/>
        </p:nvPicPr>
        <p:blipFill>
          <a:blip r:embed="rId1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дем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упљање течности између ламела строме или у епите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компензација ендотела или услед повећаног И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изовани или дифу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ебљала, смањене провидности, смањеног сјаја, везикуле и б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пуно повлачење или фиброзирање уз васкуларизац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столошка гра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пи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а гранична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ња гранична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те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th (1).jpg"/>
          <p:cNvPicPr/>
          <p:nvPr/>
        </p:nvPicPr>
        <p:blipFill>
          <a:blip r:embed="rId1"/>
          <a:stretch/>
        </p:blipFill>
        <p:spPr>
          <a:xfrm>
            <a:off x="3319560" y="3009960"/>
            <a:ext cx="537372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cquired-interface-fluid-LRG.jpg"/>
          <p:cNvPicPr/>
          <p:nvPr/>
        </p:nvPicPr>
        <p:blipFill>
          <a:blip r:embed="rId2"/>
          <a:stretch/>
        </p:blipFill>
        <p:spPr>
          <a:xfrm>
            <a:off x="157320" y="0"/>
            <a:ext cx="4708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дропс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утни инфлукс воде у стром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расцепа Десцеметове мембране (прогресија кератоконуса или у току порођа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алчење неколико недеља и фиброз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hydrops1.jpg"/>
          <p:cNvPicPr/>
          <p:nvPr/>
        </p:nvPicPr>
        <p:blipFill>
          <a:blip r:embed="rId1"/>
          <a:stretch/>
        </p:blipFill>
        <p:spPr>
          <a:xfrm>
            <a:off x="5856120" y="4389480"/>
            <a:ext cx="32878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аскуларизациј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васкуларна-провид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оксија- 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ршна- са булбарне вежњаче или лимбуса (види се ток, црвени, мрежасти изглед-панус, повлачењ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убока- из великог артеријског прстена дужице или из цилијарног тела (не може да се прати ток, тамно црвени, нема анастомоз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шовита 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rosaceakerat.jpg"/>
          <p:cNvPicPr/>
          <p:nvPr/>
        </p:nvPicPr>
        <p:blipFill>
          <a:blip r:embed="rId1"/>
          <a:stretch/>
        </p:blipFill>
        <p:spPr>
          <a:xfrm>
            <a:off x="2597040" y="1932120"/>
            <a:ext cx="39499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гениталне аномалије рожња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поремећаја у развоју за време ембрионалног или феталног разв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леђе, инфективни агенси, повреде, инткос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6-16 недеље интраутериног разв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вљају се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ођењу, спора прог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личина-мегало и микрокорнеа, облик, закривљеност, структура, заму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megalo.jpg"/>
          <p:cNvPicPr/>
          <p:nvPr/>
        </p:nvPicPr>
        <p:blipFill>
          <a:blip r:embed="rId1"/>
          <a:stretch/>
        </p:blipFill>
        <p:spPr>
          <a:xfrm>
            <a:off x="609480" y="457200"/>
            <a:ext cx="20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ornea-plana.jpg"/>
          <p:cNvPicPr/>
          <p:nvPr/>
        </p:nvPicPr>
        <p:blipFill>
          <a:blip r:embed="rId2"/>
          <a:stretch/>
        </p:blipFill>
        <p:spPr>
          <a:xfrm>
            <a:off x="4724280" y="1143000"/>
            <a:ext cx="41958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eratoglobus.jpg"/>
          <p:cNvPicPr/>
          <p:nvPr/>
        </p:nvPicPr>
        <p:blipFill>
          <a:blip r:embed="rId3"/>
          <a:stretch/>
        </p:blipFill>
        <p:spPr>
          <a:xfrm>
            <a:off x="4724280" y="3962520"/>
            <a:ext cx="388008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onus.jpg"/>
          <p:cNvPicPr/>
          <p:nvPr/>
        </p:nvPicPr>
        <p:blipFill>
          <a:blip r:embed="rId4"/>
          <a:stretch/>
        </p:blipFill>
        <p:spPr>
          <a:xfrm>
            <a:off x="685800" y="4724280"/>
            <a:ext cx="216216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icrocornea.jpg"/>
          <p:cNvPicPr/>
          <p:nvPr/>
        </p:nvPicPr>
        <p:blipFill>
          <a:blip r:embed="rId5"/>
          <a:stretch/>
        </p:blipFill>
        <p:spPr>
          <a:xfrm>
            <a:off x="533520" y="2438280"/>
            <a:ext cx="288288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актерисјк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Staphyloccocus aureus, Staphyloccocus epidermidis, Streptoccocus pneumoniae, pseudomonas aeroginosa, Moraxel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брамбена функција рожњаче- епител и дезмозоми-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Neisseria gonorrhoeae, Corznebacterium diphteriae, Heamophylus influenzae, Lis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83152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hypopion.jpg"/>
          <p:cNvPicPr/>
          <p:nvPr/>
        </p:nvPicPr>
        <p:blipFill>
          <a:blip r:embed="rId1"/>
          <a:stretch/>
        </p:blipFill>
        <p:spPr>
          <a:xfrm>
            <a:off x="2709720" y="2496960"/>
            <a:ext cx="372456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убјективне тегобе- бол, гребање у оку, појачано сузење, пурулентни секр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-оток капака, блефароспазам , фотофобија, епифора, црвенило вежњаче, дефект епитела рожњаче који се боји фл, хипопион, синехије у пупилрној реги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ф дг- микотични кертитис, акантамебни кератитис, херпетични стромални некротизирајући керат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- анамнеза, клиничка слика, брис промене на рож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hystology nice.jpg"/>
          <p:cNvPicPr/>
          <p:nvPr/>
        </p:nvPicPr>
        <p:blipFill>
          <a:blip r:embed="rId1"/>
          <a:stretch/>
        </p:blipFill>
        <p:spPr>
          <a:xfrm>
            <a:off x="457200" y="2287440"/>
            <a:ext cx="4038480" cy="31514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5" descr="corneae hystology.jpg"/>
          <p:cNvPicPr/>
          <p:nvPr/>
        </p:nvPicPr>
        <p:blipFill>
          <a:blip r:embed="rId2"/>
          <a:stretch/>
        </p:blipFill>
        <p:spPr>
          <a:xfrm>
            <a:off x="4495680" y="2438280"/>
            <a:ext cx="43149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примена антибиотика према антибирогра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цијална антибиотска терапија (аминогликозид и цефалоспорин или хиноло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ска антибиотска терапија-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pseudomonas aeroginos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Neisseria gonorrhoe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икотич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Fusarium solani, Aspergilus fumigatus, Candida alb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тко али теш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уготрајна употеба антибиотика и кортикостероида, повр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азак у рожњачу: директно преко биолошких материјала или индиректно након бактеријских или вирусних инфе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: беличасти инфилтрат рођњаче нејасних граница , нераван, сателиске лезије около, Веселијев имунски прстен-линија контакта миктоичних антигена са антителима, хипопион, фибрински плак на ендотелу, секундарни гла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убјективно: гребање у оку, бол, БЕФ,  замагљен вид, појачан секр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ф. Дг: бакретијски кератитиси, стромални херптеични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бр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mycotic.jpg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примена антимикотика до 6 нед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бразија епитела пре терапија- боље продира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форативне кератопла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кантамеб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cantheamoeba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а га у земљи, води и вазду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 носилаца свих врста контактних сочива, најчешће ме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јективно: умерена иритација уз осећај страног тела, БЕФ, јак 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ани зн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а епителиопатија- неправилан зрнасти изглед са тачкастим и дендритичним дефектима епитела(херпетични кератитис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неурални инфлитрати у рожњачи-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keratoneuritis radi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клани инфилтрати површних слојева рожњач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 keratitis numul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ко се лечења не започне у прве 4 недеље...развијена клиничка сл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етан или инкомплетан инфилтрат строме прстенастог облика у централном дел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а рекација дужице- хипопион, задње синехије, секундарни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acanth.png"/>
          <p:cNvPicPr/>
          <p:nvPr/>
        </p:nvPicPr>
        <p:blipFill>
          <a:blip r:embed="rId1"/>
          <a:stretch/>
        </p:blipFill>
        <p:spPr>
          <a:xfrm>
            <a:off x="2133720" y="2163600"/>
            <a:ext cx="48765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-контактна сочива, клиничка слика, б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дуготр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памидин изетионат и дибромпропамидин уз полихексаметилен бигуанид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форативна кератопл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10% целокупне дебљине 50-90 мик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5-7 слојева епителних ћелија без орож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ђусобно чврсто спојене дезмозомима, чвршће и јаче у дубљим сло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ријера за продор воде из спољ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речава продор бактерија и гљив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ирус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рпес симплекс тип и1 и 2, варичела зос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ационална употреба антибиотика и кортикостеро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90% одрасле популације има антитела на ХСВ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СВ 1- примарна, латетна и рекурентна инфе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марна херпетична инф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ви контакт са ХСВ 1, после 6. месеца жив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апљично, директ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кубација 3-12 да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анифестација-блажа респираторна инфекција, грозница, малаксалост, афтозни стоматити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имарна окуларна инфекција: кожне везикуле, унилатерални фоликуларни конјунктивитис са истостраном лимфаденопатијом, промене на рожњачи- пунктиформне или дендритич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понтано пролази 10-14 да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3% ацикловир у око, уколико нема промена на рожњач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атентна херпетична инф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току првих 48 сати, ХСВ напушта нападнуту регију и повлачи се у тригеминални реги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гер фактори: повишена телесна темпретура, физички или психички стрес, УВ зраци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тивирани ХСВ се враћа на циљно ткиво- рожњач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куренте херпетичне инфекције:Површне и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ромалн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ршне- везикуле, дендтричне, географске и амебоид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адекватна терапија услед непрепознавања клиничке слике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д географског и амебодиног облика процес захвата и строму, па је испод дефекта инфилт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и критеријум: рецидиви, унилатералност и смањена остељивост ро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3% ацикловир локал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3" descr="dendr.jpg"/>
          <p:cNvPicPr/>
          <p:nvPr/>
        </p:nvPicPr>
        <p:blipFill>
          <a:blip r:embed="rId1"/>
          <a:stretch/>
        </p:blipFill>
        <p:spPr>
          <a:xfrm>
            <a:off x="0" y="0"/>
            <a:ext cx="617076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geogr.jpg"/>
          <p:cNvPicPr/>
          <p:nvPr/>
        </p:nvPicPr>
        <p:blipFill>
          <a:blip r:embed="rId2"/>
          <a:stretch/>
        </p:blipFill>
        <p:spPr>
          <a:xfrm>
            <a:off x="5638680" y="4572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омални херпетични керат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interstitialis, keratitis herpetica stromalis necroticans, keratitis disciform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екција ХСВ 1и имунска рекација строме ро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interstitiali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имунски комплекси, секторасти или дифузни инфилтрат свих слојева, уцерација, иридоциклитис, хипопион. АЦИКЛОВИР-СИСТ И Л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stromalis necrotican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слично као интерстицијални, бржег тока, перфо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keratitis disciformi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 касна преостељив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кодино централно задебљање, набори МД, преципитати на ендотел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кортикостероиди и антивирусни леков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о постоји дефект епитела, контариндикована је употеба К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stro.jpg"/>
          <p:cNvPicPr/>
          <p:nvPr/>
        </p:nvPicPr>
        <p:blipFill>
          <a:blip r:embed="rId1"/>
          <a:stretch/>
        </p:blipFill>
        <p:spPr>
          <a:xfrm>
            <a:off x="6477120" y="4724280"/>
            <a:ext cx="240984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ЗВ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Површ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неколико дана после појаве промена на кожи. Тх: 3% ациклов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Дубок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умулар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(7-10 после почетка болести, инфилтрат окружен узаним едемом у строми, интактан епител, спонатана ресоспција или ожиљавање) и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сциформни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2-3 недеље после, сличан као ХСВ1 дисциформни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3" descr="herpes_zoster_ophthalmicus.gif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еуротрофичк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 анестетичној рожњачи-губитак сензитивне инервације коа обезбеђује трофи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паљење или повреде тригеминалном живца, акустични неурином, вирусни кератитиси, јатрогена-анестетици, бета блокатори..., ДМ, конген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л знаци: благ едем епитела уз фотофобију, црвенило и смањен вид; тачкасти дефекти епитела у интерпалпебралној регији; пространа хоризонтално овална ерозија у централном дел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нични ток, секундарна инфекција (Гр-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гресија до перфо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апија: медикаментна-вештачке сузе, антибиотик, терапијска ембранаили оклузија; хируршка-јатрогена птоза-ботулински токсин, темпорална тарзорафија, апликација амнионске мемб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идезмозоми-веза са базалном мембраном- мања регенеративна моћ него епи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епитела зараста за 24-48 с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ontent Placeholder 3" descr="tumblr_luatj1kr6h1qeo1dvo1_500.jpg"/>
          <p:cNvPicPr/>
          <p:nvPr/>
        </p:nvPicPr>
        <p:blipFill>
          <a:blip r:embed="rId1"/>
          <a:stretch/>
        </p:blipFill>
        <p:spPr>
          <a:xfrm>
            <a:off x="2190600" y="228132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ератитис због лагофталму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бог неадекватног влажења рожњаче суз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агофтал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линичка слика: промене на капцима, епифора, гребање, смањен вид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ункитформна епителиопатија (доња трећи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већање постојећих промена, десквамација епиелтних ћелија и улцерација-хоризонтално ов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парција улцерације везивним ткивом уз васкуларизац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ф дг: неуротрофички и суви К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х: вештачке сузе (течне, гел маст) и влажна комора; хирурчка- корекција ектропијума, репарција дефкта на капцима или декомпресија орбите, темпорална тарзораф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based.png"/>
          <p:cNvPicPr/>
          <p:nvPr/>
        </p:nvPicPr>
        <p:blipFill>
          <a:blip r:embed="rId1"/>
          <a:stretch/>
        </p:blipFill>
        <p:spPr>
          <a:xfrm>
            <a:off x="4876920" y="5715000"/>
            <a:ext cx="228600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facialisparese2.jpg"/>
          <p:cNvPicPr/>
          <p:nvPr/>
        </p:nvPicPr>
        <p:blipFill>
          <a:blip r:embed="rId2"/>
          <a:stretch/>
        </p:blipFill>
        <p:spPr>
          <a:xfrm>
            <a:off x="7662960" y="5029200"/>
            <a:ext cx="1481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ератитис изазван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браонкасти депозити на доњем тарзусу, Бауманов слој и стро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Хинолон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беличасти депозити у пределу дефкта на рожњач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нтималарици и антиаритмици-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ртложаста кератопатија, билатерална, симетрична, доња трећина рожњаче, не смањују вид, спонатно се губ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Фенотиазин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интерпалпебрални жућкасто браон депозити строме, ДМ и ендотела, не губе 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Злато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дифузно, прашинасто црвенкасти депозити, не смањују вид, губе се после годину дана од престанка терап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строфије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редитарно, билатерално, симетри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ез васкулари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но почи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оро напреду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ма узрочне повеза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предње површине- дистрофија епитела и Баумановог слоја (Коганова микроцистична епитела дистрофија- рецидивирајуће ероз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строме- таложење појединих супстанци у строми- макуларна дистрофија строме- Греноу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задње површине- ендотел- декомпнезација- едем- Фуксова ендотелијална дистроф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ератоконус-предњи и задњи, кераопласт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3" descr="fuchs-endothelial-corneal-dystrophy-6137_3.jpg"/>
          <p:cNvPicPr/>
          <p:nvPr/>
        </p:nvPicPr>
        <p:blipFill>
          <a:blip r:embed="rId1"/>
          <a:stretch/>
        </p:blipFill>
        <p:spPr>
          <a:xfrm>
            <a:off x="5472000" y="4114800"/>
            <a:ext cx="36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stromal.jpg"/>
          <p:cNvPicPr/>
          <p:nvPr/>
        </p:nvPicPr>
        <p:blipFill>
          <a:blip r:embed="rId2"/>
          <a:stretch/>
        </p:blipFill>
        <p:spPr>
          <a:xfrm>
            <a:off x="2286000" y="2286000"/>
            <a:ext cx="39006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pithelial.jpg"/>
          <p:cNvPicPr/>
          <p:nvPr/>
        </p:nvPicPr>
        <p:blipFill>
          <a:blip r:embed="rId3"/>
          <a:stretch/>
        </p:blipFill>
        <p:spPr>
          <a:xfrm>
            <a:off x="152280" y="0"/>
            <a:ext cx="3362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егенрациј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толошке промене услед неког локалног или системсог обољ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нилатерал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ферна или ексцентрична локал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наслед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редње или старије животно д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гресив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старења- немају клинички значај, не утичу на квалитет вида, , геронток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таложења хемисјких супстанци- амилоид, хијалин, калцијум, урати, холестреол...-појасаста дегенрација (препарати живе, суво око), ЕД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3" descr="arcus-senilis.jpg"/>
          <p:cNvPicPr/>
          <p:nvPr/>
        </p:nvPicPr>
        <p:blipFill>
          <a:blip r:embed="rId1"/>
          <a:stretch/>
        </p:blipFill>
        <p:spPr>
          <a:xfrm>
            <a:off x="304920" y="609480"/>
            <a:ext cx="3314520" cy="3133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band.jpg"/>
          <p:cNvPicPr/>
          <p:nvPr/>
        </p:nvPicPr>
        <p:blipFill>
          <a:blip r:embed="rId2"/>
          <a:stretch/>
        </p:blipFill>
        <p:spPr>
          <a:xfrm>
            <a:off x="4114800" y="32767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БЕОЊ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ornea-basic-5-63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брозна опна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поји 6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целуларна, непрозирна-има доста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дебља у пределу лимбуса 1мм, а на месту припоја мишића 0,3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већи отвор за 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305px-Sclera.PNG"/>
          <p:cNvPicPr/>
          <p:nvPr/>
        </p:nvPicPr>
        <p:blipFill>
          <a:blip r:embed="rId1"/>
          <a:stretch/>
        </p:blipFill>
        <p:spPr>
          <a:xfrm>
            <a:off x="6238800" y="3876840"/>
            <a:ext cx="29052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склерити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граничено запаљење ткива између конјунктиве и бео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знатог узрока, чест код системск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ф дг: укапавање ВЗК капи- губи се црвенило од конјунктивитиса; јак бол- склер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КС и НСАИЛ лок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клер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ске болести везивног ткива- РА, полимиозитис, СЛЕ, Вегенрова грануломатоз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и-нодуларни, дифузни, некрот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њ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а слика: БОЛ, рецидив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Системски КС, НСАИЛ, циклоспорин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ТЕРАПИЈА НЕМА ЕФ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Content Placeholder 3" descr="episcleritis.jpg"/>
          <p:cNvPicPr/>
          <p:nvPr/>
        </p:nvPicPr>
        <p:blipFill>
          <a:blip r:embed="rId1"/>
          <a:stretch/>
        </p:blipFill>
        <p:spPr>
          <a:xfrm>
            <a:off x="380880" y="22860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Scleritis-5.jpg"/>
          <p:cNvPicPr/>
          <p:nvPr/>
        </p:nvPicPr>
        <p:blipFill>
          <a:blip r:embed="rId2"/>
          <a:stretch/>
        </p:blipFill>
        <p:spPr>
          <a:xfrm>
            <a:off x="2666880" y="1981080"/>
            <a:ext cx="387504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stock-photo-eye-hemorrhage-showing-blood-in-the-conjunctiva-140569468.jpg"/>
          <p:cNvPicPr/>
          <p:nvPr/>
        </p:nvPicPr>
        <p:blipFill>
          <a:blip r:embed="rId3"/>
          <a:stretch/>
        </p:blipFill>
        <p:spPr>
          <a:xfrm>
            <a:off x="5286240" y="4114800"/>
            <a:ext cx="3857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афилом скле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изовано истањење беоњаче услед исањ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високе кратковидости- задњи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запаљења или повреде у предњим де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нема или сложени хируршки зах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sta.jpg"/>
          <p:cNvPicPr/>
          <p:nvPr/>
        </p:nvPicPr>
        <p:blipFill>
          <a:blip r:embed="rId1"/>
          <a:stretch/>
        </p:blipFill>
        <p:spPr>
          <a:xfrm>
            <a:off x="380880" y="1066680"/>
            <a:ext cx="3619800" cy="2552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staph.jpeg"/>
          <p:cNvPicPr/>
          <p:nvPr/>
        </p:nvPicPr>
        <p:blipFill>
          <a:blip r:embed="rId2"/>
          <a:stretch/>
        </p:blipFill>
        <p:spPr>
          <a:xfrm>
            <a:off x="3886200" y="3886200"/>
            <a:ext cx="39020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ункција епи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уктурна организација и интегритет епитела спречава улазак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 прекорнеалним сузним филмом обезбеђује глатку површину за правилно преламање свет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ремостива баријера за продор микроорга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дња гранична мемб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целуларна- дебљине 12 микрона, испод епи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пред је у контакту са базалном мембраном, а позади са стром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усто збијена кратка па све дужа колагена влакна која се настављају у стр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0000"/>
                </a:solidFill>
                <a:latin typeface="Calibri"/>
              </a:rPr>
              <a:t>Бауманов гранични слој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фикасна заштита за механичку трау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ња моћ регенерација-пролиферација везивног ткива-ожиљ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5:38:04Z</dcterms:modified>
  <cp:revision>31</cp:revision>
  <dc:subject/>
  <dc:title>Рожњача</dc:title>
</cp:coreProperties>
</file>