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7D3E-D432-4162-B5CA-17EAC5728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0CF-5741-46E8-918E-72FE3B8DB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2D03A9-601C-4E80-AA1A-50438BEE6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B3C-9AEB-4A93-AA96-F1A9D292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57D-5FDB-4F08-A446-94176A6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5E4-42B6-46C8-8883-6A84BCD7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63C-4F8C-4A91-9459-581CDBD5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FB7-086F-410A-B9A8-3891C59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6CE-E1E9-47A3-B0CA-4B862E6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D17-3DE1-45AC-9C0D-FEEE1F2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FE4-A91A-44EA-AA85-4132DCD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14A-FCB3-466E-82DD-622D7B4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058-F56C-4461-A7B3-F65F2F89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B77-906F-4F82-A75C-D3C7A3E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B9A-C110-4780-A423-5B48787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A72F-CFB0-4FA6-A71E-3F74E765C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3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6920" y="5373720"/>
            <a:ext cx="453708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Татјана Шаренац Ву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21337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R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ЛИНИЧКИХ СЛУЧАЈЕВА </a:t>
            </a:r>
            <a:r>
              <a:rPr b="1" lang="sr-C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ЊАЧ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Win7\Desktop\makula.jpg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2368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900000" y="5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cula corneae / Status post ulcus corne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39640" y="620640"/>
            <a:ext cx="76327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цијент стар 34 године, упућен је на Клинику за офталмологију, КЦ Крагујевац из Завода за хитну медицинску помоћ због бола,  црвенила и пада вида на левом 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цијент наводи да је 7 дана раније имао повреду левог ока, огребала га је грана по том оку док је секао дрва у шу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редно је се јавио офталмологу који је поставио дијагнозу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erosio corneae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 ординирао следећу терапију (доноси медицинску документацију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g Enbec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x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лево око 5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штачке сузе без конзерванса на сваких 2 сата у лево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Т заш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826920" y="40464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rosio corne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Win7\Desktop\hhh.png"/>
          <p:cNvPicPr/>
          <p:nvPr/>
        </p:nvPicPr>
        <p:blipFill>
          <a:blip r:embed="rId1"/>
          <a:stretch/>
        </p:blipFill>
        <p:spPr>
          <a:xfrm>
            <a:off x="4524480" y="3933720"/>
            <a:ext cx="3751200" cy="255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55640" y="1628640"/>
            <a:ext cx="69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ŠLOS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: мешовита хиперемија, линерана ерозија рожњаче од 3 до 5 часова парацентрално, флуоресцеин +, предња очна комора дубока, бистрог садржаја, сочиво на месту, прови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826920" y="765000"/>
            <a:ext cx="75614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кон примењене терапија пацијент је осетио побољ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 заказану контролу сутрадан, није се 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писану антибиотску терапију није корист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3 дана након повређивања поново је осетио гребање у левом 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о занимању је професионални возач, па је се на преглед јавио тек по повратку с пута, 7 дана након повре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6920" y="9810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Офталмолошки на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55640" y="1916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V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V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2/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днекса и предњи сегмент уре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мешовита хиперемија,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вални улкус рожњаче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хипопион 2-3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PNO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јасних граница, румена, макула уредна, артерије и вене уре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не сагледава се због промена на предњем очном сег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Win7\Desktop\ooo.jpg"/>
          <p:cNvPicPr/>
          <p:nvPr/>
        </p:nvPicPr>
        <p:blipFill>
          <a:blip r:embed="rId1"/>
          <a:stretch/>
        </p:blipFill>
        <p:spPr>
          <a:xfrm>
            <a:off x="971640" y="1628640"/>
            <a:ext cx="5775120" cy="3414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900000" y="6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  <a:ea typeface="Arial"/>
              </a:rPr>
              <a:t>Ulcus corneae e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ypop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00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дикована је хитна хоспитализација на Клиници за офталмологу, КЦ Крагујев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971640" y="476280"/>
            <a:ext cx="691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Дијаг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утврђивање узрочника непоходно је узети брис вежњчање 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raping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”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рожњ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Међутим, ово клиничко стање, због ризика од перфорације рожњаче и развоја ендофталмитиса захтева хитну, емпиријску, терап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а слика, уз податке раније ерозије рожњаче, указује да је у питању бактеријски кера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900000" y="836640"/>
            <a:ext cx="691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 Floxal 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 сваких сат времена по једна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Gentamycin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 сваких сат времена по једна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Homatrop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% 3x1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ештачке сузе без конзерванса на сваких 2 сата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26920" y="836640"/>
            <a:ext cx="7632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налаз за лево око 17 дана након хоспита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0,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6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ко мирно,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ефект епитлизовао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мањење транспаренције у централним деловима по типу маку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бистрог садржаја, хипопион ресорбован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уска, реактивна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прови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отежано се сагледава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NO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 макула уредне, крвни судови уре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6T07:11:42Z</dcterms:created>
  <dc:creator>Win7</dc:creator>
  <dc:description/>
  <dc:language>en-US</dc:language>
  <cp:lastModifiedBy>Windows User</cp:lastModifiedBy>
  <dcterms:modified xsi:type="dcterms:W3CDTF">2020-09-26T16:50:35Z</dcterms:modified>
  <cp:revision>16</cp:revision>
  <dc:subject/>
  <dc:title>УНИВЕРЗИТЕТ У КРАГУЈЕВЦУ ФАКУЛТЕТ МЕДИЦИНСКИХ НАУКА</dc:title>
</cp:coreProperties>
</file>